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79D89-FE18-41EF-B01A-D278158E8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B52B8-F8F3-4713-984A-109DD532C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A178B-E43A-4CFE-BE55-8FA2B8DFD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7C109-2CA8-4E4B-9ABB-910F6B4EE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92F4B-6D25-45A0-9F2C-66211FFF4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C024C-1560-40E0-B75D-D994F0DD6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FE4E7-3868-43AF-B601-C0CC0B593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9EFAB-3766-45E2-9688-1F0FEE96C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796C2-D155-4D5D-9072-A75FB8C25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E84EA-8232-4132-B3BE-0E6820402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BD79A-9E89-4322-BA99-26F84704B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49193-6B9F-44C3-A019-D05FB5F98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503CE-4911-41F8-B977-8EDBDABADD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NDS-O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7720" y="2666520"/>
            <a:ext cx="716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nd 3 shapes that all have an AREA of about 30 square cm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VING THE LETTERS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335268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need to choose a 3-D capitalized letter and determine its surface ar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ck one that’s best for 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657600" y="1219320"/>
            <a:ext cx="54864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to do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038480" y="1447920"/>
            <a:ext cx="4419720" cy="45259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762120" y="1981080"/>
            <a:ext cx="3733560" cy="369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re are some steps to consider for getting start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ketch the let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ketch its 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entify how many different faces there a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the shapes of each 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formulas do I nee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do I neatly show my work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solid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your sticky note, record each letter under 3 different categ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r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diu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s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r evaluation is based on how difficult it would be to determine the letter’s surface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1T14:30:24Z</dcterms:created>
  <dc:creator>Simcoe County District School Board</dc:creator>
  <dc:description/>
  <dc:language>en-US</dc:language>
  <cp:lastModifiedBy>Simcoe County District School Board</cp:lastModifiedBy>
  <dcterms:modified xsi:type="dcterms:W3CDTF">2011-06-01T18:45:33Z</dcterms:modified>
  <cp:revision>3</cp:revision>
  <dc:subject/>
  <dc:title>MINDS-ON!</dc:title>
</cp:coreProperties>
</file>