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B29-E67C-4850-A945-7FF1D14A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F37-A893-48BF-91CD-43F65C96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6E0-A722-4B11-82DD-38291519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06B-009E-4587-BE89-9F0F8912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5D6-272E-4FB6-9FAA-657703CE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C59-D6A7-4538-A944-21AB0C9B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5B8-E98C-4FE4-868D-E16F8D35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422-4579-433E-97EB-301273A7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70E-BD8D-43D7-9616-CAF0BE7F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40F-50C6-481F-A16E-BF0647AD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86E-5463-4399-AA50-522951AA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41C-F492-4AA2-A0B5-423DEE8E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9FBA-7C30-4345-AFFF-25F886ADA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DS-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666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3 shapes that all have an AREA of about 30 square 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VING THE LETTER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352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hoose a 3-D capitalized letter and determine its 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one that’s best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41972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1981080"/>
            <a:ext cx="37335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some steps to consider for getting star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its 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how many different faces ther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shapes of each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ulas do I n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neatly show my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sticky note, record each letter under 3 different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evaluation is based on how difficult it would be to determine the letter’s surfac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4:30:24Z</dcterms:created>
  <dc:creator>Simcoe County District School Board</dc:creator>
  <dc:description/>
  <dc:language>en-US</dc:language>
  <cp:lastModifiedBy>Simcoe County District School Board</cp:lastModifiedBy>
  <dcterms:modified xsi:type="dcterms:W3CDTF">2011-06-01T18:45:33Z</dcterms:modified>
  <cp:revision>3</cp:revision>
  <dc:subject/>
  <dc:title>MINDS-ON!</dc:title>
</cp:coreProperties>
</file>