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FDA-B5F0-4557-8660-69810CF3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779-39E6-47FF-889D-A77F2747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AFA3-7466-4E65-A320-A751C961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06D-5BE7-4685-8662-7A783FFB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7BA-653F-41C9-A8AC-A809130D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C51-8A96-4749-ADEA-B93F6D0A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1B8-C603-4A6B-8E0C-888E9E61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7224-D7ED-4E2F-8581-AEDB1F8D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C8A-CB9C-4DE2-B82C-AEF83323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19FB-C6EC-4777-9AA9-49991C40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0430-0784-4120-BCC4-FD80BF17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9DB-8FF4-4EBC-9625-4550A56B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4089-3475-4A19-B688-5166C8182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DS-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6665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3 shapes that all have an AREA of about 30 square 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VING THE LETTER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352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hoose a 3-D capitalized letter and determine its surfac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one that’s best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86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d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441972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120" y="1981080"/>
            <a:ext cx="37335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are some steps to consider for getting star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tch the 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tch its 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how many different faces there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shapes of each 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formulas do I n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I neatly show my wo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your sticky note, record each letter under 3 different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evaluation is based on how difficult it would be to determine the letter’s surface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4:30:24Z</dcterms:created>
  <dc:creator>Simcoe County District School Board</dc:creator>
  <dc:description/>
  <dc:language>en-US</dc:language>
  <cp:lastModifiedBy>Simcoe County District School Board</cp:lastModifiedBy>
  <dcterms:modified xsi:type="dcterms:W3CDTF">2011-06-01T18:45:33Z</dcterms:modified>
  <cp:revision>3</cp:revision>
  <dc:subject/>
  <dc:title>MINDS-ON!</dc:title>
</cp:coreProperties>
</file>