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A17-9E95-4BBE-882E-E36BAD9C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C3B-A10F-4229-854A-97A9A41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186-7BCA-4FA4-88AE-81E2CB76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B9F-3F05-4DDC-B94D-BFF9E780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DB5-E5EF-408E-AA74-0539652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D23-4F81-47D8-A90C-1AB42B0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401-1D52-4878-8E7C-5321AC07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478-1328-4711-81F4-AFB00C11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258-0DCC-4F87-BD2A-F5C9F93A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833-5582-42F7-B924-2C4AC10B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A69-C077-4BB4-860E-2B10206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11E-CC0F-4D8A-A19E-13570EA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F7E9-0942-4646-A869-382BCC911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DS-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666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3 shapes that all have an AREA of about 30 square 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VING THE LETTER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352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hoose a 3-D capitalized letter and determine its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that’s best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1972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1981080"/>
            <a:ext cx="37335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some steps to consider for getting sta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its 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how many different faces ther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shapes of each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ulas do I n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neatly show my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sticky note, record each letter under 3 different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evaluation is based on how difficult it would be to determine the letter’s surfac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4:30:24Z</dcterms:created>
  <dc:creator>Simcoe County District School Board</dc:creator>
  <dc:description/>
  <dc:language>en-US</dc:language>
  <cp:lastModifiedBy>Simcoe County District School Board</cp:lastModifiedBy>
  <dcterms:modified xsi:type="dcterms:W3CDTF">2011-06-01T18:45:33Z</dcterms:modified>
  <cp:revision>3</cp:revision>
  <dc:subject/>
  <dc:title>MINDS-ON!</dc:title>
</cp:coreProperties>
</file>